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490-3CDC-4B9A-9724-9564BF33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B49-3F33-4A42-9DA9-F9F7E54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A17-2137-4DFD-9506-A6F4FCA0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211-D19B-403C-B2C6-5D21814D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E12-173B-4C1D-A8BB-55C587C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125-AE30-465C-A5DA-E280383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5CA-810F-46D8-A506-F352465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7BB-D081-4ADB-A6BF-8E79EFD5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350-C8F5-48B4-BBC1-6EE7884C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FC4-22C4-419A-84E4-442CB89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DDB-DA1E-45A0-A13F-32F0B85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7AD-AE9F-426E-AD78-961FD0EA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A13-5357-4B63-A4FA-8399D080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f your plane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(should/should not) take a trip to _____________ and we are going to tell you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from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planet) is _______ miles from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take _____________ (how long) to travel to (your plan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lanet is made up of what g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/is not possible to surv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lanet is terrestrial or jov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lanet is how far from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on my plane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sons are (how long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is (how long?) on my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torms on your pla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ravity on your planet compared to ea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someone be able to survive with this gravity?  If so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traveled to your planet, what could they do to have fun? (rings, moons, terrain?  Mountains, crater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should someone know about your planet that makes it un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2:29:42Z</dcterms:created>
  <dc:creator>Jeff Lewis</dc:creator>
  <dc:description/>
  <dc:language>en-US</dc:language>
  <cp:lastModifiedBy>Jeff Lewis</cp:lastModifiedBy>
  <dcterms:modified xsi:type="dcterms:W3CDTF">2008-09-26T15:00:50Z</dcterms:modified>
  <cp:revision>3</cp:revision>
  <dc:subject/>
  <dc:title>Name of your planet here</dc:title>
</cp:coreProperties>
</file>